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F14513-8A95-4DAF-9F39-1C3F7B584A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8D44A5-BDA4-4006-A270-B11B2D8105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0060FB-D087-4EA9-AB1B-0B301738BB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351E6C-46C5-42AB-BF1A-02B4212E5C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AD764D8-4696-4C3C-AF36-F8812D96160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D12857-0B0C-4F5A-B49E-D35B40E6E8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043C63-58EC-47D6-A8ED-0EEFFBAE11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2250A2-C0CE-4E7E-B517-DF2156A5E6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127AAB-5C4A-417D-BEF4-6914AD4C6A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329831-F571-44B2-9199-0F032D0078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0713D3-7A3D-4142-9CC6-2CD6829444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A0E822-AA56-444C-80AF-1AA82F5788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F23385-FD3B-436F-9B07-3FC0536BC6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D1F1D2-F53A-4503-A6EA-AE438A34A0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29B5C1-BAFC-4DAE-9CCB-AE6CC1208F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77D16CC-F5A3-4DC6-B878-8ABFC40A189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473A414-B3A9-428A-A967-E955AF90671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FDF413-F939-4C16-9997-227D113B92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6992A0-2DCB-4F30-8588-438E4E6D76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7F57C5-8079-4CFB-81ED-5C4C2E6F33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58E229-AFEB-4544-93D2-1BAB259710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DD9A43-6C5B-4A99-A87A-3406B539AB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334AF0-1864-4B68-8CE4-40DC5AE66B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5D75F0-3601-41FB-B915-3F82000DAA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EAD770-1255-4794-A072-D6121B9657D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FF6B4F-F1DE-49ED-95FE-D49192CAD29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B5947C8-B5F3-43A7-90C5-AD7BD20343A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BC9BC8D-C932-4663-9933-BE5BD9221081}"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422322-5BA2-46FA-B6E7-611BA5F5062F}"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448106-32A0-4A86-8BAB-B616698D4A11}"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6D8A76-556F-4095-B5D5-1731ED5A3F3E}"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761C7F-55C0-458B-A35A-098557A16BCF}"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A62BA2-E83C-4EDD-8D0F-F8B150681F0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7D6354-E634-441E-8902-B03B01AC6EDC}"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DCEDAF-B5A2-4AF1-A085-EB64C5A45D1F}"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79ED63-4D0F-448E-88D7-E886FDC9A174}"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6B633C-147E-40EE-9C6F-A6E4340165FD}"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2BCAA0-745C-49B2-B9C0-A7205EAAEE91}"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76905C-C734-48AE-BDEF-648F96356626}"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4FCC3D-146C-49DF-B27B-B4384D40EA8D}"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CAB699-D88A-40D6-BB9D-93638C03C38C}"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D4D09F-44DB-4F46-9147-AB7740C00C84}"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7BB8C5-21D7-4A42-B9BE-C101BF697AC4}"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123813-9CBE-48B0-8466-58299DF84082}"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E047AD-188F-4D3E-8261-B6812FC31AD4}"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D145AA-5AEC-4484-92C4-F9147059882D}"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93118C-7498-43D2-96A5-CB861CA75513}"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5635C4-B134-4ACD-A196-F9BCBF3429FE}"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D0C08D-D5BC-472C-8FFC-C88A4B3030C4}"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225A0B-1A54-414C-8FDC-3B2111AE4486}"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F8E8EA-4DD6-42A4-BD10-51E58B9999A5}"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9C69E7-3A09-4452-8386-EE841E09006D}"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4CD35F-DC99-4F31-AACB-13C05DC78423}"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E292ED2-9D99-421D-80C7-2FADBAA649E0}"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ED2C10-7216-41B7-B4ED-DB77F6059BC2}"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E91A46-7892-4730-BF34-0BF3658F7D54}"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EC8B3E-C1C1-4031-8E47-3ED9443E199A}"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FA9597-0022-4753-9AB2-67EC3031E9C8}"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7D62C9-CC57-45E2-9E1D-CCF0768ADEBC}"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C1E9BE-2E37-47CB-9347-42A33C36F2C2}"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8462BA-7F08-4974-AA03-314608FC79D1}"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DA4A29-B7B9-4552-BFBA-110E4B78195C}"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425E02-E4A1-432E-9F06-4BE7636DA832}"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17F768-03DA-4327-A168-9E332D41E668}"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8C102A-B812-453D-8383-55CAF30B8930}"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646DA1-1148-4280-BBD2-B5ED8FB8B0DC}"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336E43-3160-424D-89F2-D1D26DD131D2}"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0FC098-2511-4481-B7FA-14F92B57E2A0}"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8A06F6-876A-4471-B684-019BA3F99848}"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C795A1-6E0F-47D4-8644-CE69A2570BE5}"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5285D7-06AB-4D10-BE4F-6E0132EE194D}"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4F7F84-F473-4EC5-81C5-4E31048FB500}"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7AD07B-430E-4C89-8A3B-3E349C7B0154}"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6E144C-31BF-40F1-B751-2D6640666E58}"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5C6078F-E390-45E3-8AE3-6074501B50FE}"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A004F8-789E-43C6-B684-FD1B7E90634D}"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F4AF5B-0377-4F12-958A-5D2FD7FF5867}"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837CA06-3D19-476F-8ECB-B612E0D0DA83}"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A63720-C05F-45A4-8264-652188A17EC2}"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438308-0FB3-4FE4-B757-D844CF28F9EC}"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D57CA6-4073-4476-9C68-2ED3D8B1DF84}"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71CB01-A2BD-443D-AECD-04A6C1225FBF}"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6B73B7-28E3-42DF-803C-FAE9FDACFBEC}"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AF84A9-731D-4260-8B59-0E1239BD0561}"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177D18-9E64-421B-A968-392380506A5B}"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46E3827-DC4E-44A0-A9D4-2D68C89DD783}"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80376C-005E-44CB-8340-4E0ECF48DA16}"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569492-2735-4598-AB42-12EEA6ADDA97}"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2714CC-363D-49D3-9F21-4548E0E47D8E}"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5CDF0F-8B37-4814-861F-2E6A097DDF24}"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487D43-57B5-43B7-9BFC-3AD84C1F6C26}"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C5A397E-56BB-4A2A-B165-3902FA18F833}"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D1B1FC-B3B7-4006-938F-A86B27E287FC}"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A8A6DC-33A3-4BB2-BE8C-8D352302BB3F}"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9C20D0-5835-4E7C-B0C8-A18ABCEF36D2}"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BA2A80-41D4-4A24-BF13-C61C1AA746DC}"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B2220F2-314C-433D-B9D3-04C8F50DC8C8}"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A58795-AA77-421C-A7F5-95B325A89E96}"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4FC31B-26F7-478C-B118-6411206DC7E8}"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86D8DE-BBB1-4813-A0A5-9A1605392ABC}"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3B86C0-76F5-4969-A460-E50B19C8D4BF}"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5CBDAF-6E98-435F-8930-807193F6B80C}"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B21191-7A79-4EEC-948A-54DEE6B6D808}"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299E09D-CAE9-4FD2-950F-B4A4E9328344}"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2D0B43-AF9B-4915-942C-2AE0A275A543}"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521C76-AB8E-430B-8875-C5DB3BE8BAB7}"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D9ED3B-482C-4FCC-89F5-8D6C226F8BF3}"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3EA7174-5A9A-440D-A22D-2B927FD0A8BD}"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6552E9-1B2F-4594-B03F-3F2E45552509}"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1140442-0537-4BFF-B6E0-FCF0529E831B}"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79D762-4237-4DF0-8785-BDE6A86E9D98}"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A8354A-5CAD-45E2-B52E-EC1B4BE43CDB}"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CC8D70-A897-4CEF-ABAA-5F6D5A342A32}"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ABB89D-7D50-4E0C-A0A5-322AA83B532B}"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7877AD-6A07-4F1F-B023-CFAAE462A66D}"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84D963-3470-4E45-8760-0ACEECEEF016}"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3D24EC-94B6-4381-A169-EF38446FEB17}"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D3A63B-26DE-40DD-BB95-DC3D938BDAE6}"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E825C7-657A-44C1-88F7-2AB56822BB27}"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D07899-9171-4B29-A011-0CB5ADD843B8}"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9C58C0-9C68-4703-A4CC-68455376C2F4}"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5A1386-7D9E-458A-BE39-3BE73A8C9D39}"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1E42B1-7926-427C-B934-5FC053D02181}"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5FE008-722F-4BB2-A18E-971B4FE0E028}"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F3BF0D-10A0-46D4-BBE5-C0B2F660FA2B}"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6822D8E-6388-4CF1-9BDB-C9172A864D22}"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938E5E-0D36-4F69-80E4-F8CCD6D4CF20}"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94CA15-7D43-4F4B-8FA6-96FF7DABC225}"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E5A6C4-51A3-4E97-8CD8-86C312DEB076}"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C9F591-202D-4C82-BDF5-3B563680D4C4}"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2E1F0B-4EA3-4BD0-8B11-0DEDD285C3A4}"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5585E5-B2FC-43D3-9B7A-5C14AE24DD33}"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519678-59D0-417D-9077-E08B2048D68D}"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99F0E8-47A3-408C-8963-A0E1FD360C9F}"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731F88-F892-412E-8781-C27A889A347F}"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B3F530-B3DE-4F51-A0EC-7CD0B7CAD0C8}"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AC5B4C-B788-4AA9-97FC-3AEE7D8F6BDF}"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DC03D7-EA46-49E4-A8A8-5A10F819E20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CCAAFD-2C14-457A-BE81-CB902B04E23A}"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16C4C2-C982-48E2-9ECB-C7A17A7B5738}"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996546-9D46-4422-B580-E1E36A2CB449}"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79CDC5-9EB5-4406-8FFA-67EF05FBFCD2}"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6F0DA2-BA0C-44DF-840A-2C24F93C6FC4}"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6F975A-F924-4BF5-86E9-FB13593C2332}"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B66E7B-F8F8-4BE3-A852-AAEAE52C148E}"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1DBACE-7C91-4420-8B13-11EC84B38F2F}"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FA868B-E7D4-4C8F-B4DE-3F37423889C6}"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491249-6510-481D-892F-C9CB281EE0D7}"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7C9521-3D11-4699-BF63-D48C977F1039}"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71FA83-7825-4CB4-8F39-FAAC62F6DAB5}"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FFB0A6-4435-4DEE-8B7D-3C3FB56B3D6A}"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8B76FB-61FD-485B-BD69-66525BEB4D71}"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113CE4-7BCB-4232-B15D-A738CA927255}"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7F14072-7B48-4952-8D3F-285E5F074D83}"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7E9F64-912D-4474-85EA-DE827BFBFEC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72C044-D2D4-443F-BAF4-C30ED98AB79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828B87-2E6B-48B1-B828-49AFAC3BC41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A300B2-CAAF-4E8A-9974-5B27EBA40A9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146552-4226-49A3-832B-115929728E3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DC73D8-B18F-4514-A57A-394D360D71C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774BA43-B4E3-4F2B-AE4D-ECB37BF2CC4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9F18DC-38DF-4A92-ACC2-8BBB36ECF99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EA57AA-954D-421F-86EA-FF1A2FE53F6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65A3A6-7DD2-4A86-8A91-025E6D3C92D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AAEA9C-38D4-4863-A3DD-E484BEED91C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1718C5-8AB4-4B2D-AB37-E3391EB3DCE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E3B2CB-A95A-4E88-9656-71E76C77767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AF8A73-FA86-4C60-9CC7-D970D593EFA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58AF56-0FE9-49BD-9273-293D5F7D77C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2A7A21-11E6-455B-B2F1-BA3CC98F940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EFBD31-4D37-402E-B711-4BCA104B32F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282ADF-3313-49A1-9E72-A0B7053F07C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43E373-10EB-4C4D-87DE-9CC1F50CC4E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C1EF5A-5CE2-4193-8969-7C009695DAF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4237A6-6D5B-42B7-8DC2-A5C211820BB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C5376D-2A78-47E8-B5C0-4509D8A96C3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D12700-90EB-4DEB-BB48-A8ED537EB3F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03F69F-E3B8-4235-A13E-ABE764C5A25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1A6D41-395E-4969-B10C-F2B473E2D4B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5C5E7D-57A3-48CD-8932-FEA1AAC7F90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AF9165-670B-4CD9-82D2-3511162CCB3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356117-3DE7-42DD-AF06-36EF5D72D97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C4621A-37FA-4C6A-BB9B-CD3B070897E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F5A516-876B-4FFE-B098-7B504984935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022776-C885-4944-85D1-1026C8E084E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40CC77-05F6-4F4C-9ECD-BFE9BD3091A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2BDDC8-241B-4044-B2C8-545B6E7F077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58233B-3B98-4B47-90D3-2B2435030E0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889FD6-FB10-4E3A-B4D8-3762CED4BD1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49034E-46B0-420E-8F62-5F51DA93D9E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E9B794-AE02-402E-B8A0-CE347290780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44818A-FE89-4824-9827-314D42FF49E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B32305-B982-4645-9048-6D0AE741E15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9AF019-5473-4A54-AD7B-733745E8ABD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DBA8B5-8A73-4D41-B3DF-78F93B84671D}"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2DCAED-E6D5-429D-8991-508EC476BEF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D115CB-D4BA-40AF-BEF4-631E2397B8CB}"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FEA42D-D61E-48DA-9E61-E37F0285E9C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4714FC-3F84-47CF-9B62-FB6721F845B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179520-A2AB-4805-A3DC-F521E829DB2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C8987C-26F4-434C-BA6E-B160E30BEE4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336F48B-EEA3-40B0-BD41-4B6CB8AB3181}"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7244B7-C10E-49C8-B566-EA9C93210CD9}"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48211A-261F-4CA8-9E4C-1DAFB78E64B0}"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59BA8E-2596-4016-BE36-E904B421154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60638F-5D03-41F3-A925-32A7BB3206B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68618E-E2BF-4793-8773-16D1DCDC7AA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1EBC6F-E5BC-4AF9-8F62-72E5DEBD1CC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5A80A9-2548-4A00-B087-8C6A1A51DA13}"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22D640-A339-4E4B-868E-80390153982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19E40E1-AC6C-4ADB-9CB8-71A4BD7087B0}"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29ED4C-94F0-4AAB-A8B9-FF889A5C5B59}"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CCDFB4-AE0D-43FB-B0BD-440EDCDBC49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1B388C-4C7C-4E34-A6CE-4D3327947F5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C3949E-6D18-4276-B156-9D707602C8FC}"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FAA934-F818-40A5-AE07-AA2D0151C001}"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3A40AD-453A-4086-85F8-EE33169117F8}"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C24A30-3F73-4AAB-A4C3-A487801A7CD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3C4914-3DA4-43E2-B53E-79A7CF987A29}"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EFC235-599F-4CC7-86E1-101B5AFA8CA5}"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6A0B58-557F-4495-802F-E33E7C771C28}"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6572D1-8D86-4972-9282-7255705A4F86}"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EEAB69-2E06-47C5-BB10-1E76F42D92E6}"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B3B9AE-C3C3-49E2-8710-407D96234322}"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E47FEC-8D03-4BF8-950E-71491D0E556D}"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CF43836-8186-47E3-B8C9-C39128BFF406}"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EF09DC-5E17-4887-990B-66D9E34FF392}"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AFAB12-2FEC-492B-9985-EB1379057F70}"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AAC994-16AB-40AB-9702-017977F6478A}"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AB6793-7D35-40D5-A535-38AE166ABA2B}"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2AA120-3941-40A4-B23C-1B93D7B829DC}"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B69F25-0DC6-480A-9AB7-30A2B972960C}"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546F34-94EC-4860-BF2E-F10C848137ED}"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938FBD-D7AC-4826-99A7-028E76ED384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B3E14D-E279-492B-8EA9-9895FCF8327E}"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716C22-24DB-49B4-99AA-4FADAB73C69B}"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229960-8F47-48EE-AD99-F6F279E77FA0}"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6CEC1C-2B31-4658-823B-8F87B19F8349}"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3C5DE8-CFE3-485F-8278-040148336377}"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