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53539"/>
        <c:axId val="6123126"/>
      </c:barChart>
      <c:catAx>
        <c:axId val="73153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3126"/>
        <c:crosses val="autoZero"/>
        <c:auto val="1"/>
        <c:lblAlgn val="ctr"/>
        <c:lblOffset val="100"/>
        <c:noMultiLvlLbl val="0"/>
      </c:catAx>
      <c:valAx>
        <c:axId val="6123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53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34C-62AE-419A-B649-FE67B01D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7B4-F4ED-436E-A389-8500FED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4F6-DD1F-4428-B83F-33067BC6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A40-448A-470B-9A60-9D6B6AE2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ECF-306C-4B1E-A6F4-612ABF9E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883-2FFE-4DB4-87A6-B596D79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848-1DAE-4DF3-94B6-19CAD6D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068-4143-456A-99BE-3E29D31B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843-E04C-4F5E-8635-230A25D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011-8803-4652-8C07-8C10D40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753-E2B3-4834-8E26-9055D6E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7CC-080C-44FC-B8D1-0DC4DE3E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D0229-CF43-4B01-A0EF-22A5DC1F71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