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161086"/>
        <c:axId val="73927166"/>
      </c:barChart>
      <c:catAx>
        <c:axId val="991610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27166"/>
        <c:crosses val="autoZero"/>
        <c:auto val="1"/>
        <c:lblAlgn val="ctr"/>
        <c:lblOffset val="100"/>
        <c:noMultiLvlLbl val="0"/>
      </c:catAx>
      <c:valAx>
        <c:axId val="739271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1610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0E9D-D1BF-40B8-BACB-3310CD1D2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ECA8-7C70-4DB5-A89B-AD055DF9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AFE6-3481-4BEF-A0C9-C1C10A95B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ABD2-C51F-4215-80D2-6CB18D1E5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B8D6-D730-4E96-8DAD-4AF05713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F001-B3D1-40BD-95CA-37F6646F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447C-5460-4DA5-BBE6-7D1A407A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A917-D5B0-40E3-B213-2CF5920C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8D09-9568-4DBA-97BB-E6C71445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7F75-C2AA-4418-994D-6135AE6E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A059-F475-4FFB-9FBF-91F6943A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B9E5-F9A0-4EF8-98C2-2241C42D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2E46A-C249-49AD-86E4-152FAB8434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