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444643"/>
        <c:axId val="29788872"/>
      </c:barChart>
      <c:catAx>
        <c:axId val="104446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88872"/>
        <c:crosses val="autoZero"/>
        <c:auto val="1"/>
        <c:lblAlgn val="ctr"/>
        <c:lblOffset val="100"/>
        <c:noMultiLvlLbl val="0"/>
      </c:catAx>
      <c:valAx>
        <c:axId val="297888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4446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A62F-CECD-4838-8805-994CC3EE0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A47B-C4BE-4BFF-885B-9E1DB596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0826-0FEF-4E39-82FB-3C5B172B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B342-CB42-4E17-99B7-349C39AC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2182-DF6B-413E-AE41-F645C36B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BF44-DF3A-4D40-9828-708274CB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5E1F-4F09-4A94-B2B1-06738DC4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2E60-CC01-4058-BA31-49618182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018F-15E0-4C2A-8FC9-06CFD85E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9442-4E56-45D5-9B76-5CB9EF2B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F059-2F69-4943-B390-F97832CA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344C-4CFE-46A0-BC9F-DDD824CA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C0FF7-CC5C-4DFA-9ED9-4E03C2C4ED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