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02428"/>
        <c:axId val="93849529"/>
      </c:barChart>
      <c:catAx>
        <c:axId val="72802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49529"/>
        <c:crosses val="autoZero"/>
        <c:auto val="1"/>
        <c:lblAlgn val="ctr"/>
        <c:lblOffset val="100"/>
        <c:noMultiLvlLbl val="0"/>
      </c:catAx>
      <c:valAx>
        <c:axId val="938495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02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1FB-D708-4B61-A0CF-854EA953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570-6F5C-426B-ABF2-906EBEAD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57CE-8F1E-4570-ADB3-892B0658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25E-DD53-44D9-BBD1-34C5E788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A8F1-14FF-42CC-97FC-2E69DDFF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F84-E366-4F3F-866C-D090064C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0FD1-9372-49DA-B43F-19E73A7C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E25F-395C-47E0-A4A3-E524D8EE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97A-E43B-4B36-A5D6-7AD1D605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F727-BF4B-44F7-869F-10564BFD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998-064E-404A-BB5E-C051F4B7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CE6-AC0D-4B2E-A267-566024B5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97427-68D1-4F0A-AEBD-BF153A3338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