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81542"/>
        <c:axId val="28499380"/>
      </c:barChart>
      <c:catAx>
        <c:axId val="60981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99380"/>
        <c:crosses val="autoZero"/>
        <c:auto val="1"/>
        <c:lblAlgn val="ctr"/>
        <c:lblOffset val="100"/>
        <c:noMultiLvlLbl val="0"/>
      </c:catAx>
      <c:valAx>
        <c:axId val="28499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81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195-657E-4EB6-9829-D3AE2328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292-C1CF-4A34-841A-1E5B366A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D1F-54D4-4BAC-B6C1-3E8C0866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ADD-5D89-4C32-9E8F-2C7F4820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8FC-3C36-4453-A4D1-1DA2AEA5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62B-B9CA-41B9-A91C-789E96DC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2A6-8ECE-4576-B757-0E8DD505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494-39EE-4763-B4E8-8171D95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548-FA91-4C83-9234-BED9D486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308-35EA-40CC-A68C-ABA23D5D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78B-BA93-4DEA-80AE-F96D7F10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218-4F75-426F-A919-B250D02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62EA8-2A5B-46FB-B306-E3C8047163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