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75160"/>
        <c:axId val="4996614"/>
      </c:barChart>
      <c:catAx>
        <c:axId val="14475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6614"/>
        <c:crosses val="autoZero"/>
        <c:auto val="1"/>
        <c:lblAlgn val="ctr"/>
        <c:lblOffset val="100"/>
        <c:noMultiLvlLbl val="0"/>
      </c:catAx>
      <c:valAx>
        <c:axId val="4996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5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655-CF03-44B8-8C7D-34674A78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F31-7C6A-4569-A5BF-7FFF0B9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8F3-2A1D-4529-ABA7-6733E0AB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3C8-8A71-4C0A-8ECF-070ECCC1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C31-5EAD-4DE1-A1EB-F807CADE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BAA-2198-4F7A-9F08-D8EC7D60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0D1-44C7-4972-9B1C-5B7D6D6A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D0F-CA82-46A7-8929-BA0E8CC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33F-629A-4730-B6FA-8A277A55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3A9-67E8-4726-99D6-59A7DE0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B2D-DD8A-4665-85C4-CBB0492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3F5-AA75-49ED-9700-9705F7E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DB69F-D58B-4011-8D9C-BB77948C0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