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558842"/>
        <c:axId val="41908682"/>
      </c:barChart>
      <c:catAx>
        <c:axId val="485588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08682"/>
        <c:crosses val="autoZero"/>
        <c:auto val="1"/>
        <c:lblAlgn val="ctr"/>
        <c:lblOffset val="100"/>
        <c:noMultiLvlLbl val="0"/>
      </c:catAx>
      <c:valAx>
        <c:axId val="419086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588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2BFD-E300-4248-B1B5-02934B0FD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6993-4915-4DAD-9735-A5B6B5CA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C0FE-C904-48C0-8F84-C29FAA47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2BB8-05D6-4253-A5D2-B5AC2CEC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6679-3E28-4BA0-AAFA-2F87CDCE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2311-5815-4301-9E08-24F4341B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18E2-EFAB-4CD7-BFE7-79155F76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6B76-8E87-494A-AA14-FA206298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68AA-2B1F-472D-8A60-0BCFE65D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8D26-A1D9-4575-B652-9E9D4DD7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04B7-A829-4296-91D9-1AA7F2EC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1007-38D4-4973-8CC7-3A9BB801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2A132-01B6-490E-953D-42BB3D6EA8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