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36527"/>
        <c:axId val="18561770"/>
      </c:barChart>
      <c:catAx>
        <c:axId val="47836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61770"/>
        <c:crosses val="autoZero"/>
        <c:auto val="1"/>
        <c:lblAlgn val="ctr"/>
        <c:lblOffset val="100"/>
        <c:noMultiLvlLbl val="0"/>
      </c:catAx>
      <c:valAx>
        <c:axId val="18561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36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331-DC92-4A12-9BE6-1CD79E98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8BC-FFD3-4BCF-8A44-1AB56C87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286-401F-4330-93A6-6A7638B8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1AA-8F5F-4885-871B-63BF9911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F33-C557-4984-BBF3-E2461220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066-3A2F-4196-8F06-04049BAB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CB2-6E53-4B2C-9AE2-48765C78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2F9-4FCD-4D04-9C4B-3C3B4A12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B45-770B-4E07-BB41-A15D761E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5E1-06D5-45E3-9871-DED6B52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A94-C550-4129-9C6D-68C15C04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F93-BFEA-40B8-8315-48217206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F7B82-550C-466D-9A65-F3A97CA372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