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20876"/>
        <c:axId val="18408505"/>
      </c:barChart>
      <c:catAx>
        <c:axId val="94720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8505"/>
        <c:crosses val="autoZero"/>
        <c:auto val="1"/>
        <c:lblAlgn val="ctr"/>
        <c:lblOffset val="100"/>
        <c:noMultiLvlLbl val="0"/>
      </c:catAx>
      <c:valAx>
        <c:axId val="18408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0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A60-96BF-4441-AE9B-B95E2118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6FC-602F-40D4-BBC6-3A18073C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095-6987-447B-BBF6-6E9EF6C4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7E9-65EC-4622-9620-AFEDD074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56E-5862-41C2-BE00-A4581E2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02F-679C-4BED-85F6-E6EEBDB5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125-A106-4B56-BB71-1FAF474E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B12-8B14-4A66-95E9-1C992AAD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1E2-FBD7-4336-B90A-27983EF2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937-0A77-4270-89C5-64172CB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82E-1D4E-4113-A1B3-BF8224A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720-B745-42BC-ABB2-6E82E99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C89EB-1EBA-4B63-935F-33D09AE52B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