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4873"/>
        <c:axId val="116893"/>
      </c:barChart>
      <c:catAx>
        <c:axId val="5034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893"/>
        <c:crosses val="autoZero"/>
        <c:auto val="1"/>
        <c:lblAlgn val="ctr"/>
        <c:lblOffset val="100"/>
        <c:noMultiLvlLbl val="0"/>
      </c:catAx>
      <c:valAx>
        <c:axId val="116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941-F5BC-43EC-9C64-CD268891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975-0C89-4149-AF79-248D6215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9C9-0A7A-40F4-A69B-1F42D56B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432-EECB-495A-BDA3-DF89462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94D-FF7B-49B7-BD54-1D4B85E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944-7EFF-40EC-8C43-223C6E82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EDF-E49B-42D6-A7FD-929BBDD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368-D7B3-4527-A8C0-4A3323C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662-96D0-405B-BF0C-CAB649BC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79E-C64B-4DC1-9133-B564AFC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496-952C-4CB3-AF1E-E6CAB62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980-09B4-443D-98BB-178CAB89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43A5C-BBAF-435F-9340-622BF85FC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