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81264"/>
        <c:axId val="27926218"/>
      </c:barChart>
      <c:catAx>
        <c:axId val="83281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26218"/>
        <c:crosses val="autoZero"/>
        <c:auto val="1"/>
        <c:lblAlgn val="ctr"/>
        <c:lblOffset val="100"/>
        <c:noMultiLvlLbl val="0"/>
      </c:catAx>
      <c:valAx>
        <c:axId val="27926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81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FD6-7D2C-486F-8E27-93B60596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594-77D9-4EF2-B3F9-ACC9B37F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17E-0BA8-4B2D-A8FB-2D862C20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19D-F4C0-4532-8C66-F27C5C8F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346-29DD-46E6-A09C-5FD8E87B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4EF-313C-4F68-B12B-2A274CD3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7FA-93AA-4BAC-A83B-4CB0628B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A42-3373-456F-B3BA-D714B33D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B1D-0A1B-40BE-96D3-0D49ACCD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018-F376-47E6-A7DF-48D7F148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A61-0B13-4C21-947D-94F771A9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0F1-152F-49A4-94E0-8C789D48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2BEC2-B725-454A-B02A-6E0C5184E6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