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25134"/>
        <c:axId val="71935445"/>
      </c:barChart>
      <c:catAx>
        <c:axId val="46025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5445"/>
        <c:crosses val="autoZero"/>
        <c:auto val="1"/>
        <c:lblAlgn val="ctr"/>
        <c:lblOffset val="100"/>
        <c:noMultiLvlLbl val="0"/>
      </c:catAx>
      <c:valAx>
        <c:axId val="71935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25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837-1808-4CDD-BD28-CD0D0EC5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9B83-EAFC-4F37-A6BF-00F59A23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EEE-4EB0-4CA0-9E46-FE5CBC3B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E0C-46E3-4278-829C-F8394AB5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8E2-B7D8-4DBB-8F0D-79CF6C5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567-3CBF-4C22-A34B-FF631E9B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490D-DA73-4A65-8B57-14CAB9C8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6CE-AE51-44DF-BFE0-DE790120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384-E049-4DB7-AFB3-39730B92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433-6D5C-4292-A76D-E459D428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E55-CF1C-4518-8822-7512BACC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BEA-9074-4CD4-95CE-50940BA9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47B30-D986-4743-963B-115C7C6F50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