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19134"/>
        <c:axId val="46283385"/>
      </c:barChart>
      <c:catAx>
        <c:axId val="70319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83385"/>
        <c:crosses val="autoZero"/>
        <c:auto val="1"/>
        <c:lblAlgn val="ctr"/>
        <c:lblOffset val="100"/>
        <c:noMultiLvlLbl val="0"/>
      </c:catAx>
      <c:valAx>
        <c:axId val="46283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9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A5A-7984-4831-8B98-BCEF8DDD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DEE-C7F1-4D99-BC85-92117D02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487-F02A-4E43-9097-C1C4FFB9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AAB-1AD1-463F-96DB-E0507EF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33B-2756-4738-8CB5-B869DCD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EE3-C669-4047-A62E-456AF36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7D0-21DD-4D2F-B342-CA6FC2E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4B6-C097-4F8A-9ABC-4016FD1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928-4ADF-42EF-A467-185A4BC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EE6-1848-4F0C-992F-5CD7619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BBF-6F17-4542-ABE9-7616FB6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CF4-9F53-4FB9-9DDF-53FD03FD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F0413-C565-4CCA-82A8-7D94FD9072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