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97139"/>
        <c:axId val="20602421"/>
      </c:barChart>
      <c:catAx>
        <c:axId val="65697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02421"/>
        <c:crosses val="autoZero"/>
        <c:auto val="1"/>
        <c:lblAlgn val="ctr"/>
        <c:lblOffset val="100"/>
        <c:noMultiLvlLbl val="0"/>
      </c:catAx>
      <c:valAx>
        <c:axId val="20602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7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33C-DAF9-473E-B0F9-4A3BD355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D7A-8F2B-4B45-B0F8-17BC563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522-D582-4C4C-96B7-50565ADD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4A1-48BF-4373-B0AF-D8780730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A89-5084-4CDA-9CE6-2EC5B2B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0B4-6896-432E-9C7F-6006499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802-B826-4691-BD62-49FB8192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4B9-7CE1-4E7B-A694-017F1E21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8DB-C3D3-4482-80E3-880619E3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3ED-4F0E-432B-8A3D-9CD4BB0B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923-E11E-4484-A4C4-16019ED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8A0-DC2B-4049-A23A-372496F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A940-765F-4B9B-8835-99E333AE0E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