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86719"/>
        <c:axId val="29924638"/>
      </c:barChart>
      <c:catAx>
        <c:axId val="65686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24638"/>
        <c:crosses val="autoZero"/>
        <c:auto val="1"/>
        <c:lblAlgn val="ctr"/>
        <c:lblOffset val="100"/>
        <c:noMultiLvlLbl val="0"/>
      </c:catAx>
      <c:valAx>
        <c:axId val="29924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86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F62-C943-425F-ABA0-7C49D2FE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1F0-4F35-44ED-9D25-7CEF3A3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655-DFDD-40B9-9F40-42129D51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D4B-E059-4316-86D2-84FE28B4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6E1-1B21-4305-BBC8-FFBE3D1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CEA-2E76-4A1E-BC0F-25E3EB38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F41-1CFC-4FA0-81CF-FC027958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F16-8C3C-4640-B9C2-F1F793A7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596-F136-4354-9F7C-AA2A43C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5D9-031E-4EB0-852E-43126A4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B84-6802-4FEF-9EC4-01B2337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545-2F2A-4C88-B9DD-5B1C9ED3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AF50C-9C01-481F-997A-A0BC66D43A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