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3976"/>
        <c:axId val="8677248"/>
      </c:barChart>
      <c:catAx>
        <c:axId val="1393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7248"/>
        <c:crosses val="autoZero"/>
        <c:auto val="1"/>
        <c:lblAlgn val="ctr"/>
        <c:lblOffset val="100"/>
        <c:noMultiLvlLbl val="0"/>
      </c:catAx>
      <c:valAx>
        <c:axId val="8677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143-0FD4-4F6E-B080-AD6E17A9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263-9919-460A-8D6F-5ABF61C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5A8-9B9C-4435-BC72-7817B194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506-BD86-4D91-A4A2-0CCCDCEE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69F-9A59-43FB-B13D-1DF3665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F3A-05A4-409B-8F16-FDF47CD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C8B-4DD6-4ECF-AFCB-D34795E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5AA-74ED-44D3-B52C-DB94681D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D37-D0A7-4618-A896-49EAAF35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666-D51D-4F6A-A221-45E7C2A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F8A-FB03-4F94-AFC5-7EAD8D4D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804-8E18-4A80-BCCA-4AB939C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7F77E-E03F-4815-AD97-C5582DA1F5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