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880155"/>
        <c:axId val="53930770"/>
      </c:barChart>
      <c:catAx>
        <c:axId val="898801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930770"/>
        <c:crosses val="autoZero"/>
        <c:auto val="1"/>
        <c:lblAlgn val="ctr"/>
        <c:lblOffset val="100"/>
        <c:noMultiLvlLbl val="0"/>
      </c:catAx>
      <c:valAx>
        <c:axId val="539307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8801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E07A-3203-4660-917D-2D5B58B9F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8E79-7083-422F-93DE-3808087FE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23FC-F125-40C3-807E-76572DB6C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5922-C1F8-4F74-8126-FBCFDF990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F75F-2CCA-4715-AB75-A4A0CDDAB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BBC4-E869-4AA9-9BAE-DE58DB1A4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9B24-9A11-489D-A25F-5ABBD5B40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083B-2608-4C41-9CE1-13150F872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B6F4-D7EB-40EC-8234-AD103414B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FDE5-3FD9-48BC-A520-87B87BFD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89EC-C1D9-480D-96F8-916ABA5B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F934-2F87-4AD4-91AA-35867019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F42D35-1B62-4CEE-BB51-8510CE4110E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