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663516"/>
        <c:axId val="23907226"/>
      </c:barChart>
      <c:catAx>
        <c:axId val="246635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07226"/>
        <c:crosses val="autoZero"/>
        <c:auto val="1"/>
        <c:lblAlgn val="ctr"/>
        <c:lblOffset val="100"/>
        <c:noMultiLvlLbl val="0"/>
      </c:catAx>
      <c:valAx>
        <c:axId val="239072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635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9659-F229-4D3A-8541-2F19189D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97D7-D855-4FBA-8A5D-396CA802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16A0-A167-46BB-8BF7-83E7DE70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45D7-593F-46EE-B646-61B2B5E20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B0FC-906F-4855-BBE1-CE0734AE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A43D-E78C-442C-ADF2-95BD574A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8377-A6ED-4135-87FA-6B21AD32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27D6-0D3F-4091-A379-5CED130F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90BA-3FCF-4EFA-AEA5-BCDF4325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2434-18FC-4924-9CDB-D6DDC214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C783-0EB4-4DC5-94DB-CC11050C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4514-18A2-472E-9E2C-EFA47DA5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93FAB-AE20-40BE-8694-4179EA5D0A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