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40481"/>
        <c:axId val="31349921"/>
      </c:barChart>
      <c:catAx>
        <c:axId val="22340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49921"/>
        <c:crosses val="autoZero"/>
        <c:auto val="1"/>
        <c:lblAlgn val="ctr"/>
        <c:lblOffset val="100"/>
        <c:noMultiLvlLbl val="0"/>
      </c:catAx>
      <c:valAx>
        <c:axId val="313499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40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91B-24C7-4BA1-8F07-C3C932B1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E97-8A36-4E8A-A018-464A35AA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336-FBF2-408D-A5EB-4300761C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690-41C4-4820-A594-F5D9003C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C78C-D3E1-4044-971A-EA78C3B3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47E-C389-4FA5-968A-FE6993C9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F7BA-F785-4493-B712-35A865A2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8AF-25B5-439E-8CCD-9ABF992E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AAF-4EDF-463E-B9C8-A96306E2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24F-63DA-467E-BB90-15C35336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9D8-14A7-4C7A-80A5-4FB56FA3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DC8F-3D04-4BE7-99FB-F031E94C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B8613-803A-4D0D-8486-F470499D0F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