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55614"/>
        <c:axId val="9285367"/>
      </c:barChart>
      <c:catAx>
        <c:axId val="86355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5367"/>
        <c:crosses val="autoZero"/>
        <c:auto val="1"/>
        <c:lblAlgn val="ctr"/>
        <c:lblOffset val="100"/>
        <c:noMultiLvlLbl val="0"/>
      </c:catAx>
      <c:valAx>
        <c:axId val="92853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55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61C-51CB-4D02-81EC-12BA491B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7310-5659-41C8-A5D8-90BC74FA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091F-6F41-4F4E-BE3D-749979D9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1C0-7A09-4770-8C75-636234B4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5E2E-2813-4E3C-A845-B48E5574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CDB7-DB81-4509-87A5-C3E0E7E9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CF3F-F56F-4967-B697-E1E6DFFA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B56-BAD6-41A4-9606-5DC8F69C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1B7-176D-4228-ADC6-5D3B0767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6A9-6EED-431C-8945-8A98FF2B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330-FABD-4161-BBF3-23EAF662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209-AB54-4A55-B6A3-AEECA666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8A2E1-1A00-4ED1-B325-73F9562F48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