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16667"/>
        <c:axId val="31700541"/>
      </c:barChart>
      <c:catAx>
        <c:axId val="88716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00541"/>
        <c:crosses val="autoZero"/>
        <c:auto val="1"/>
        <c:lblAlgn val="ctr"/>
        <c:lblOffset val="100"/>
        <c:noMultiLvlLbl val="0"/>
      </c:catAx>
      <c:valAx>
        <c:axId val="31700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16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AD6-DE43-421B-9646-A23E2D55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A31-F2E8-4389-AA8E-933C9AD9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C4B-5D74-42A4-B5D2-D250E213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52B-61CB-4A20-AEEC-C53714E6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94E-9A77-40D6-8492-ACBB83C2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8F1-7739-474B-9550-147CD179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441-3193-4872-82AE-0264CBDB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95E-716D-4514-ADB7-C7570CD0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574-0086-466F-82CF-A3AFAB63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FA9-F049-4C84-BC3E-D1159A2D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F6D-95B2-4DDF-8FC1-7619B010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687-A3C2-4E47-BB47-E62E3D73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5D764-DC9B-4ED8-BB05-EB4AA6848C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