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89992"/>
        <c:axId val="86804776"/>
      </c:barChart>
      <c:catAx>
        <c:axId val="91589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4776"/>
        <c:crosses val="autoZero"/>
        <c:auto val="1"/>
        <c:lblAlgn val="ctr"/>
        <c:lblOffset val="100"/>
        <c:noMultiLvlLbl val="0"/>
      </c:catAx>
      <c:valAx>
        <c:axId val="86804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9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975-7F3D-4E3B-9E6C-88ADA9E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29F-586C-4B59-9975-560716E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C37-089C-4673-89E9-2BE6AAF9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846-7E62-4D0E-B528-BA7CDD9A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525-7F61-475F-814E-09BA917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100-B8F0-4956-B8D7-B553C59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4BB-FA65-48BC-8DD6-C1D9663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6F6-08BF-4611-8C90-2E8CDAD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4E4-62B2-4B43-9910-5F721C9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4AE-D16A-4B6A-A216-FD4D511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A6E-62BC-4AEA-82D8-6867C3B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0CF-65D9-4907-B83E-F228574F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8FC31-BB8D-40E4-945B-884DD6708D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